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734-6EFB-4197-BFD9-2835A09E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043-CF84-41F1-8E04-47C85A98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4C0-53A8-4ECC-9C7E-3C1F05C3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D96-FE6D-4DD2-A23F-502D281A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B2B-3C2D-4B39-BEEC-06231CED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CBB-9715-41F7-BF3F-0CB7A793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304-898D-47FE-A96F-957F01EA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73E-E173-4408-BE50-D58D9869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E21-0557-459C-8708-77A35C59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D18-40D1-4C61-B6DD-6AB8D7DF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27A-6B12-4EDB-BACF-7641965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185-A8FF-442A-9A10-E1F111D8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C509-FBCA-449C-81BB-A3CD227306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794320" y="392904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ет поисковик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05000" y="4816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92480" y="53928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ка-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20160" y="481644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г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5280" y="5445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23040" y="48164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357720" y="392904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апешт -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214280" y="392904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шахматная фигура стоящая рядом с королё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6160" y="48164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л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20520" y="481644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р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42480" y="5445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41720" y="54450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ры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20520" y="481644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р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14280" y="392904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шахматная фигура стоящая рядом с королё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35772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осит счаст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27000" y="481644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рк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438880" y="5445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3800" y="54450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10840" y="4797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илл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438880" y="5445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35772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осит счаст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286000" y="3857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умеют общее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ольный 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ейбол и бадминтон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8160" y="544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8320" y="544500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лый м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1840" y="4797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к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416560" y="48164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438160" y="544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403280" y="544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03280" y="4797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0" y="3857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умеют общее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ольный 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ейбол и бадминтон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94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1928880" y="392904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пальцев у Симпсонов на одной рук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928880" y="392904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пальцев у Симпсонов на одной рук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2860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страна не граничит с Швейцарией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416920" y="48164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441760" y="54450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407600" y="479736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05000" y="4816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794320" y="392904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ет поисковик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страна не граничит с Швейцарией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857240" y="39290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которой стране принадлежит остров Корс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420880" y="48164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439960" y="54450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уг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409400" y="4797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409400" y="4797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857240" y="39290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которой стране принадлежит остров Корс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2428920" y="39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й стране нельзя платить евр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422680" y="4816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438520" y="54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410120" y="54450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403640" y="47973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5438520" y="54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428920" y="39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й стране нельзя платить евр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571760" y="39290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из нижеприведённых инструментов не дух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228640" y="4797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сил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215680" y="54450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262160" y="544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255680" y="47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2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5228640" y="4797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сил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219640" y="544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258920" y="54450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258920" y="47973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71760" y="39290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из нижеприведённых инструментов не дух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656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31431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ребер делает ку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1431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ребер делает ку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ширина футбольных 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22468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225760" y="5445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263960" y="5445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26396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783880" y="39290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столица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09320" y="4816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м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92840" y="53928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к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2160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440" y="5445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522468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ширина футбольных 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92840" y="53928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к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783880" y="39290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столица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02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286000" y="392904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существует книг о Гарри Потт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0" y="392904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существует книг о Гарри Потт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071800" y="385776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певица поёт песню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Мое сердце бьется для тебя)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6520" y="481644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и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160" y="48164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ин Д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43560" y="54450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анис Мориссет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43520" y="544500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шли Симп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160" y="48164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ин Д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071800" y="385776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певица поёт песню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Мое сердце бьется для тебя)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3357720" y="392904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апешт -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7960" y="48164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23040" y="48164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7080" y="5445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рва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7040" y="54450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мы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3:12:27Z</dcterms:modified>
  <cp:revision>79</cp:revision>
  <dc:subject/>
  <dc:title>Folie 1</dc:title>
</cp:coreProperties>
</file>